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6.jpeg" ContentType="image/jpeg"/>
  <Override PartName="/ppt/media/image27.jpeg" ContentType="image/jpeg"/>
  <Override PartName="/ppt/media/image16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2886-E097-4717-BF05-F77E0D20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6EB-675C-4C5E-A45E-8B5ED34F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CF9-464D-4707-836B-9752B9DC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05B-B514-450E-9EC3-72E7BA90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415E-46DE-4F69-9328-363D74FA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E470-C858-42B9-AE34-DB83FF01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19F2-FAAB-4A90-8322-DB91B6F4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443-DBD4-4624-AFDA-133C32D6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997-FC16-4F58-ACD5-AE92051C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51D3-F628-471A-8459-ACE1AA76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E292-5209-4C98-A455-CE6DB459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7B5-FCC8-47DE-883C-0183EAFD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3947-56C5-4538-B8F9-3D29C918D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getevent.ru/userfiles/servirovka-stola(1).jpg"/>
          <p:cNvPicPr/>
          <p:nvPr/>
        </p:nvPicPr>
        <p:blipFill>
          <a:blip r:embed="rId1"/>
          <a:stretch/>
        </p:blipFill>
        <p:spPr>
          <a:xfrm>
            <a:off x="357120" y="142920"/>
            <a:ext cx="8529840" cy="63975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-324000" y="0"/>
            <a:ext cx="8713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6600"/>
                </a:solidFill>
                <a:latin typeface="Tahoma"/>
              </a:rPr>
              <a:t>Сервировка</a:t>
            </a:r>
            <a:r>
              <a:rPr b="1" i="1" lang="en-US" sz="80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i="1" lang="ru-RU" sz="8000" spc="-1" strike="noStrike">
                <a:solidFill>
                  <a:srgbClr val="ff6600"/>
                </a:solidFill>
                <a:latin typeface="Tahoma"/>
              </a:rPr>
              <a:t>                                         стола</a:t>
            </a:r>
            <a:r>
              <a:rPr b="1" i="1" lang="ru-RU" sz="6000" spc="-1" strike="noStrike">
                <a:solidFill>
                  <a:srgbClr val="ae0ea6"/>
                </a:solidFill>
                <a:latin typeface="Cooper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0cd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ff"/>
                </a:solidFill>
                <a:latin typeface="Times New Roman"/>
              </a:rPr>
              <a:t>Правила сервировки стола</a:t>
            </a:r>
            <a:r>
              <a:rPr b="0" i="1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(столовые приборы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Справа от тарелок раскладывают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ножи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в следующем порядке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ближе к тарелке -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столовый нож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равее рядом с ним -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рыбный нож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оследним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- закусочный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нож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се ножи должны быть обращены лезвием к тарелке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8"/>
          <p:cNvGrpSpPr/>
          <p:nvPr/>
        </p:nvGrpSpPr>
        <p:grpSpPr>
          <a:xfrm>
            <a:off x="5354640" y="2967120"/>
            <a:ext cx="6583320" cy="360"/>
            <a:chOff x="5354640" y="2967120"/>
            <a:chExt cx="6583320" cy="360"/>
          </a:xfrm>
        </p:grpSpPr>
        <p:sp>
          <p:nvSpPr>
            <p:cNvPr id="98" name="Rectangle 5"/>
            <p:cNvSpPr/>
            <p:nvPr/>
          </p:nvSpPr>
          <p:spPr>
            <a:xfrm>
              <a:off x="5354640" y="296712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7"/>
            <p:cNvSpPr/>
            <p:nvPr/>
          </p:nvSpPr>
          <p:spPr>
            <a:xfrm>
              <a:off x="5354640" y="296712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Picture 9" descr="http://ae.kulichki.ru/pic/etic/70.jpg"/>
          <p:cNvPicPr/>
          <p:nvPr/>
        </p:nvPicPr>
        <p:blipFill>
          <a:blip r:embed="rId1"/>
          <a:stretch/>
        </p:blipFill>
        <p:spPr>
          <a:xfrm>
            <a:off x="762120" y="2590920"/>
            <a:ext cx="373356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0cd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ff"/>
                </a:solidFill>
                <a:latin typeface="Times New Roman"/>
              </a:rPr>
              <a:t>Правила сервировки стола</a:t>
            </a:r>
            <a:r>
              <a:rPr b="0" i="1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(столовые приборы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вы намерены подать гостям суп, то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ежд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оловым и рыбным ножами нужно положить ложк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столовую или десертную в зависимости от того, какой суп вы приготовили) носиком вверх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8"/>
          <p:cNvGrpSpPr/>
          <p:nvPr/>
        </p:nvGrpSpPr>
        <p:grpSpPr>
          <a:xfrm>
            <a:off x="5486400" y="3024360"/>
            <a:ext cx="6583320" cy="360"/>
            <a:chOff x="5486400" y="3024360"/>
            <a:chExt cx="6583320" cy="360"/>
          </a:xfrm>
        </p:grpSpPr>
        <p:sp>
          <p:nvSpPr>
            <p:cNvPr id="104" name="Rectangle 5"/>
            <p:cNvSpPr/>
            <p:nvPr/>
          </p:nvSpPr>
          <p:spPr>
            <a:xfrm>
              <a:off x="5486400" y="302436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5486400" y="302436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Picture 9" descr="http://ae.kulichki.ru/pic/etic/71.jpg"/>
          <p:cNvPicPr/>
          <p:nvPr/>
        </p:nvPicPr>
        <p:blipFill>
          <a:blip r:embed="rId1"/>
          <a:stretch/>
        </p:blipFill>
        <p:spPr>
          <a:xfrm>
            <a:off x="990720" y="2743200"/>
            <a:ext cx="365760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0cd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ff"/>
                </a:solidFill>
                <a:latin typeface="Times New Roman"/>
              </a:rPr>
              <a:t>Правила сервировки стола</a:t>
            </a:r>
            <a:r>
              <a:rPr b="0" i="1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(столовые приборы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412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Количество и наименование приборов, используемых для сервировки, зависят от предполагаемого меню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Так, если вы намерены подать только холодные закуски, то воспользуйтесь для сервировки только закусочными приборам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5280120" y="3046320"/>
            <a:ext cx="6583320" cy="360"/>
            <a:chOff x="5280120" y="3046320"/>
            <a:chExt cx="6583320" cy="360"/>
          </a:xfrm>
        </p:grpSpPr>
        <p:sp>
          <p:nvSpPr>
            <p:cNvPr id="110" name="Rectangle 5"/>
            <p:cNvSpPr/>
            <p:nvPr/>
          </p:nvSpPr>
          <p:spPr>
            <a:xfrm>
              <a:off x="5280120" y="304632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5280120" y="304632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Picture 9" descr="http://ae.kulichki.ru/pic/etic/72.jpg"/>
          <p:cNvPicPr/>
          <p:nvPr/>
        </p:nvPicPr>
        <p:blipFill>
          <a:blip r:embed="rId1"/>
          <a:stretch/>
        </p:blipFill>
        <p:spPr>
          <a:xfrm>
            <a:off x="1219320" y="2514600"/>
            <a:ext cx="35812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0cd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ff"/>
                </a:solidFill>
                <a:latin typeface="Times New Roman"/>
              </a:rPr>
              <a:t>Правила сервировки стола</a:t>
            </a:r>
            <a:r>
              <a:rPr b="0" i="1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(столовые приборы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65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сли же в меню входят и холодные закуски, второе горячее мясное блюдо и суп то для сервировки стола потребуются закусочные и столовые ножи и вилки и ложк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8"/>
          <p:cNvGrpSpPr/>
          <p:nvPr/>
        </p:nvGrpSpPr>
        <p:grpSpPr>
          <a:xfrm>
            <a:off x="4834080" y="3024360"/>
            <a:ext cx="6583320" cy="360"/>
            <a:chOff x="4834080" y="3024360"/>
            <a:chExt cx="6583320" cy="360"/>
          </a:xfrm>
        </p:grpSpPr>
        <p:sp>
          <p:nvSpPr>
            <p:cNvPr id="116" name="Rectangle 5"/>
            <p:cNvSpPr/>
            <p:nvPr/>
          </p:nvSpPr>
          <p:spPr>
            <a:xfrm>
              <a:off x="4834080" y="302436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4834080" y="302436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Picture 9" descr="http://ae.kulichki.ru/pic/etic/73.jpg"/>
          <p:cNvPicPr/>
          <p:nvPr/>
        </p:nvPicPr>
        <p:blipFill>
          <a:blip r:embed="rId1"/>
          <a:stretch/>
        </p:blipFill>
        <p:spPr>
          <a:xfrm>
            <a:off x="533520" y="2590920"/>
            <a:ext cx="43434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0cd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ff"/>
                </a:solidFill>
                <a:latin typeface="Times New Roman"/>
              </a:rPr>
              <a:t>Правила сервировки стола</a:t>
            </a:r>
            <a:r>
              <a:rPr b="0" i="1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(столовые приборы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81480" y="1904760"/>
            <a:ext cx="3733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сли меню включает закуски, два вторых горячих блюда из рыбы и мяса, то стол сервируют закусочными, рыбными и столовыми ножами и вилкам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8"/>
          <p:cNvGrpSpPr/>
          <p:nvPr/>
        </p:nvGrpSpPr>
        <p:grpSpPr>
          <a:xfrm>
            <a:off x="5029200" y="3103560"/>
            <a:ext cx="6583320" cy="360"/>
            <a:chOff x="5029200" y="3103560"/>
            <a:chExt cx="6583320" cy="360"/>
          </a:xfrm>
        </p:grpSpPr>
        <p:sp>
          <p:nvSpPr>
            <p:cNvPr id="122" name="Rectangle 5"/>
            <p:cNvSpPr/>
            <p:nvPr/>
          </p:nvSpPr>
          <p:spPr>
            <a:xfrm>
              <a:off x="5029200" y="310356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5029200" y="310356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Picture 9" descr="http://ae.kulichki.ru/pic/etic/74.jpg"/>
          <p:cNvPicPr/>
          <p:nvPr/>
        </p:nvPicPr>
        <p:blipFill>
          <a:blip r:embed="rId1"/>
          <a:stretch/>
        </p:blipFill>
        <p:spPr>
          <a:xfrm>
            <a:off x="533520" y="2743200"/>
            <a:ext cx="44193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33"/>
                </a:solidFill>
                <a:latin typeface="Times New Roman"/>
              </a:rPr>
              <a:t>Правила сервировки стола</a:t>
            </a: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 (хрусталь и стекло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сли вы предполагаете подать только воду (минеральную или фруктовую) и пиво, то в центре за каждой тарелкой ставят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фужер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Такую расстановку стекла называют центрово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4983120" y="2525760"/>
            <a:ext cx="6583320" cy="360"/>
            <a:chOff x="4983120" y="2525760"/>
            <a:chExt cx="6583320" cy="360"/>
          </a:xfrm>
        </p:grpSpPr>
        <p:sp>
          <p:nvSpPr>
            <p:cNvPr id="128" name="Rectangle 5"/>
            <p:cNvSpPr/>
            <p:nvPr/>
          </p:nvSpPr>
          <p:spPr>
            <a:xfrm>
              <a:off x="4983120" y="252576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4983120" y="252576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" name="Picture 9" descr="http://ae.kulichki.ru/pic/etic/80.jpg"/>
          <p:cNvPicPr/>
          <p:nvPr/>
        </p:nvPicPr>
        <p:blipFill>
          <a:blip r:embed="rId1"/>
          <a:stretch/>
        </p:blipFill>
        <p:spPr>
          <a:xfrm>
            <a:off x="838080" y="2133720"/>
            <a:ext cx="35816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33"/>
                </a:solidFill>
                <a:latin typeface="Times New Roman"/>
              </a:rPr>
              <a:t>Правила сервировки стола</a:t>
            </a: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 (хрусталь и стекло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Если вместо воды вы хотите подать квас или морс, то вместо фужера нужно поставить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кружку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повернув ее ручкой вправо. Можно фужер или кружку поставить справа на линии пересечения верхнего края тарелки с концом первого ножа. Эта расстановка называется - правосторонн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24"/>
          <p:cNvGrpSpPr/>
          <p:nvPr/>
        </p:nvGrpSpPr>
        <p:grpSpPr>
          <a:xfrm>
            <a:off x="4983120" y="2486160"/>
            <a:ext cx="6583320" cy="360"/>
            <a:chOff x="4983120" y="2486160"/>
            <a:chExt cx="6583320" cy="360"/>
          </a:xfrm>
        </p:grpSpPr>
        <p:sp>
          <p:nvSpPr>
            <p:cNvPr id="134" name="Rectangle 21"/>
            <p:cNvSpPr/>
            <p:nvPr/>
          </p:nvSpPr>
          <p:spPr>
            <a:xfrm>
              <a:off x="4983120" y="248616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23"/>
            <p:cNvSpPr/>
            <p:nvPr/>
          </p:nvSpPr>
          <p:spPr>
            <a:xfrm>
              <a:off x="4983120" y="248616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" name="Picture 25" descr="http://ae.kulichki.ru/pic/etic/81.jpg"/>
          <p:cNvPicPr/>
          <p:nvPr/>
        </p:nvPicPr>
        <p:blipFill>
          <a:blip r:embed="rId1"/>
          <a:stretch/>
        </p:blipFill>
        <p:spPr>
          <a:xfrm>
            <a:off x="762120" y="2133720"/>
            <a:ext cx="35812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33"/>
                </a:solidFill>
                <a:latin typeface="Times New Roman"/>
              </a:rPr>
              <a:t>Правила сервировки стола</a:t>
            </a: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 (хрусталь и стекло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еще одного напитка - водки, или коньяка, или вина, или шампанского - рядом с фужером, справа от него ставят соответствующий напитку предмет сервировки -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юмк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ока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8"/>
          <p:cNvGrpSpPr/>
          <p:nvPr/>
        </p:nvGrpSpPr>
        <p:grpSpPr>
          <a:xfrm>
            <a:off x="4983120" y="2514600"/>
            <a:ext cx="6583320" cy="360"/>
            <a:chOff x="4983120" y="2514600"/>
            <a:chExt cx="6583320" cy="360"/>
          </a:xfrm>
        </p:grpSpPr>
        <p:sp>
          <p:nvSpPr>
            <p:cNvPr id="140" name="Rectangle 5"/>
            <p:cNvSpPr/>
            <p:nvPr/>
          </p:nvSpPr>
          <p:spPr>
            <a:xfrm>
              <a:off x="4983120" y="251460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4983120" y="251460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" name="Picture 9" descr="http://ae.kulichki.ru/pic/etic/82.jpg"/>
          <p:cNvPicPr/>
          <p:nvPr/>
        </p:nvPicPr>
        <p:blipFill>
          <a:blip r:embed="rId1"/>
          <a:stretch/>
        </p:blipFill>
        <p:spPr>
          <a:xfrm>
            <a:off x="838080" y="2209680"/>
            <a:ext cx="35816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33"/>
                </a:solidFill>
                <a:latin typeface="Times New Roman"/>
              </a:rPr>
              <a:t>Правила сервировки стола</a:t>
            </a: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 (хрусталь и стекло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На банкетах, когда ассортимент напитков весьма огромен, стеклянную посуду расставляют в два ряда, так как ставить в одном ряду более трех предметов не принято. Такая сервировка называется полной и применима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в особо торжественных случаях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Group 8"/>
          <p:cNvGrpSpPr/>
          <p:nvPr/>
        </p:nvGrpSpPr>
        <p:grpSpPr>
          <a:xfrm>
            <a:off x="4908600" y="2514600"/>
            <a:ext cx="6583320" cy="360"/>
            <a:chOff x="4908600" y="2514600"/>
            <a:chExt cx="6583320" cy="360"/>
          </a:xfrm>
        </p:grpSpPr>
        <p:sp>
          <p:nvSpPr>
            <p:cNvPr id="146" name="Rectangle 5"/>
            <p:cNvSpPr/>
            <p:nvPr/>
          </p:nvSpPr>
          <p:spPr>
            <a:xfrm>
              <a:off x="4908600" y="251460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4908600" y="251460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Picture 9" descr="http://ae.kulichki.ru/pic/etic/83.jpg"/>
          <p:cNvPicPr/>
          <p:nvPr/>
        </p:nvPicPr>
        <p:blipFill>
          <a:blip r:embed="rId1"/>
          <a:stretch/>
        </p:blipFill>
        <p:spPr>
          <a:xfrm>
            <a:off x="762120" y="2133720"/>
            <a:ext cx="38098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ff"/>
                </a:solidFill>
                <a:latin typeface="Times New Roman"/>
              </a:rPr>
              <a:t>Правила сервировки стола</a:t>
            </a:r>
            <a:r>
              <a:rPr b="0" i="1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6600cc"/>
                </a:solidFill>
                <a:latin typeface="Times New Roman"/>
              </a:rPr>
              <a:t>(салфетки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бязательная деталь при сервировке стола 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алфетки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В зависимости от назначения их подразделяют на столовые и чайные. К чаю рекомендуются - чайные салфетки размером 35х35 см, преимущественно цветные, а в остальных случаях - столовые салфетки размером 46х46 см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1281240" y="2163600"/>
            <a:ext cx="6583320" cy="2530440"/>
            <a:chOff x="1281240" y="2163600"/>
            <a:chExt cx="6583320" cy="2530440"/>
          </a:xfrm>
        </p:grpSpPr>
        <p:sp>
          <p:nvSpPr>
            <p:cNvPr id="152" name="Rectangle 5"/>
            <p:cNvSpPr/>
            <p:nvPr/>
          </p:nvSpPr>
          <p:spPr>
            <a:xfrm>
              <a:off x="1281240" y="216360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1281240" y="2163600"/>
              <a:ext cx="6583320" cy="25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4" name="Picture 9" descr="http://ae.kulichki.ru/pic/etic/40.jpg"/>
          <p:cNvPicPr/>
          <p:nvPr/>
        </p:nvPicPr>
        <p:blipFill>
          <a:blip r:embed="rId1"/>
          <a:stretch/>
        </p:blipFill>
        <p:spPr>
          <a:xfrm>
            <a:off x="1676520" y="2133720"/>
            <a:ext cx="251460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0ea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026"/>
          <p:cNvSpPr/>
          <p:nvPr/>
        </p:nvSpPr>
        <p:spPr>
          <a:xfrm>
            <a:off x="685800" y="1676520"/>
            <a:ext cx="8001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7279b"/>
                </a:solidFill>
                <a:latin typeface="Times New Roman"/>
              </a:rPr>
              <a:t>Автор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еворкян Гамлет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 клас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У ЦДО «Эври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28"/>
          <p:cNvSpPr/>
          <p:nvPr/>
        </p:nvSpPr>
        <p:spPr>
          <a:xfrm>
            <a:off x="457200" y="838080"/>
            <a:ext cx="830592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30"/>
          <p:cNvSpPr/>
          <p:nvPr/>
        </p:nvSpPr>
        <p:spPr>
          <a:xfrm>
            <a:off x="457200" y="5410080"/>
            <a:ext cx="830592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14254" t="11831" r="8118" b="4938"/>
          <a:stretch/>
        </p:blipFill>
        <p:spPr>
          <a:xfrm>
            <a:off x="5867280" y="1268280"/>
            <a:ext cx="260532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ff"/>
                </a:solidFill>
                <a:latin typeface="Times New Roman"/>
              </a:rPr>
              <a:t>Правила сервировки стола</a:t>
            </a:r>
            <a:r>
              <a:rPr b="0" i="1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6600cc"/>
                </a:solidFill>
                <a:latin typeface="Times New Roman"/>
              </a:rPr>
              <a:t>(салфетки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торжественных застолий лучше всего полотняные салфетки. Но в семейном кругу вполне можно обойтись бумажными. Их обычно кладут в салфетницы и ставят на стол или раскладывают на находящиеся слева хлебные тарелк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1295280" y="2133720"/>
            <a:ext cx="6583320" cy="2149200"/>
            <a:chOff x="1295280" y="2133720"/>
            <a:chExt cx="6583320" cy="2149200"/>
          </a:xfrm>
        </p:grpSpPr>
        <p:sp>
          <p:nvSpPr>
            <p:cNvPr id="158" name="Rectangle 5"/>
            <p:cNvSpPr/>
            <p:nvPr/>
          </p:nvSpPr>
          <p:spPr>
            <a:xfrm>
              <a:off x="1295280" y="213372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1295280" y="2133720"/>
              <a:ext cx="6583320" cy="21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19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0" name="Picture 9" descr="http://ae.kulichki.ru/pic/etic/41.jpg"/>
          <p:cNvPicPr/>
          <p:nvPr/>
        </p:nvPicPr>
        <p:blipFill>
          <a:blip r:embed="rId1"/>
          <a:stretch/>
        </p:blipFill>
        <p:spPr>
          <a:xfrm>
            <a:off x="1066680" y="2133720"/>
            <a:ext cx="32767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ff"/>
                </a:solidFill>
                <a:latin typeface="Times New Roman"/>
              </a:rPr>
              <a:t>Правила сервировки стола</a:t>
            </a:r>
            <a:r>
              <a:rPr b="0" i="1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6600cc"/>
                </a:solidFill>
                <a:latin typeface="Times New Roman"/>
              </a:rPr>
              <a:t>(салфетки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19360" y="24382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умажной салфеткой можно пользоваться только один раз, после чего ее нужно положить вместе с использованными прибор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1281240" y="2163600"/>
            <a:ext cx="6583320" cy="2530440"/>
            <a:chOff x="1281240" y="2163600"/>
            <a:chExt cx="6583320" cy="2530440"/>
          </a:xfrm>
        </p:grpSpPr>
        <p:sp>
          <p:nvSpPr>
            <p:cNvPr id="164" name="Rectangle 8"/>
            <p:cNvSpPr/>
            <p:nvPr/>
          </p:nvSpPr>
          <p:spPr>
            <a:xfrm>
              <a:off x="1281240" y="216360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9"/>
            <p:cNvSpPr/>
            <p:nvPr/>
          </p:nvSpPr>
          <p:spPr>
            <a:xfrm>
              <a:off x="1281240" y="2163600"/>
              <a:ext cx="6583320" cy="25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6" name="Picture 12" descr="http://ae.kulichki.ru/pic/etic/42.jpg"/>
          <p:cNvPicPr/>
          <p:nvPr/>
        </p:nvPicPr>
        <p:blipFill>
          <a:blip r:embed="rId1"/>
          <a:stretch/>
        </p:blipFill>
        <p:spPr>
          <a:xfrm>
            <a:off x="1905120" y="2286000"/>
            <a:ext cx="21333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Правила сервировки стола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(специи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иборы с солью и перцем ставят в средней части стола на специальных подставках или на пирожковой тарелк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Если известно, что среди гостей есть любитель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горчицы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то прибор с нею (горчицу с ложкой) ставят на стол рядом с солью и перце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тавьте рядом с приборами со специями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бутылочки с уксусом и острыми соусами типа кетчуп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914400" y="2286000"/>
            <a:ext cx="5143680" cy="1768320"/>
            <a:chOff x="914400" y="2286000"/>
            <a:chExt cx="5143680" cy="1768320"/>
          </a:xfrm>
        </p:grpSpPr>
        <p:sp>
          <p:nvSpPr>
            <p:cNvPr id="170" name="Rectangle 5"/>
            <p:cNvSpPr/>
            <p:nvPr/>
          </p:nvSpPr>
          <p:spPr>
            <a:xfrm>
              <a:off x="914400" y="2286000"/>
              <a:ext cx="5143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914400" y="2286000"/>
              <a:ext cx="5143680" cy="17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94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2" name="Picture 9" descr="http://ae.kulichki.ru/pic/etic/90.jpg"/>
          <p:cNvPicPr/>
          <p:nvPr/>
        </p:nvPicPr>
        <p:blipFill>
          <a:blip r:embed="rId1"/>
          <a:stretch/>
        </p:blipFill>
        <p:spPr>
          <a:xfrm>
            <a:off x="1143000" y="2133720"/>
            <a:ext cx="33526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60093"/>
                </a:solidFill>
                <a:latin typeface="Times New Roman"/>
              </a:rPr>
              <a:t>Правила сервировки стола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00ff00"/>
                </a:solidFill>
                <a:latin typeface="Times New Roman"/>
              </a:rPr>
              <a:t>(цветы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05160" y="22860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особо торжественных случаях, сервированный стол   украшают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цветами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поставленными в ваз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8" descr="http://www.stolichniy.ru/_pics/pasha9.jpg"/>
          <p:cNvPicPr/>
          <p:nvPr/>
        </p:nvPicPr>
        <p:blipFill>
          <a:blip r:embed="rId1"/>
          <a:stretch/>
        </p:blipFill>
        <p:spPr>
          <a:xfrm>
            <a:off x="304920" y="2209680"/>
            <a:ext cx="502920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e3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Как вести себя за столом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800600" y="2514600"/>
            <a:ext cx="4114800" cy="411480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ож рекомендуется держать так, чтобы конец его ручки упирался в ладонь правой руки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редний и большой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альцы нужно держать за бока начала ручки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указательный палец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 на верхней поверхности начала ручки ножа. Этим пальцем ручку ножа прижимают вниз при отрезании нужного куска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стальные пальцы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должны быть несколько согнуты</a:t>
            </a:r>
            <a:r>
              <a:rPr b="0" lang="en-US" sz="18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en-US" sz="18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ладо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8"/>
          <p:cNvGrpSpPr/>
          <p:nvPr/>
        </p:nvGrpSpPr>
        <p:grpSpPr>
          <a:xfrm>
            <a:off x="1281240" y="2781360"/>
            <a:ext cx="6583320" cy="1297080"/>
            <a:chOff x="1281240" y="2781360"/>
            <a:chExt cx="6583320" cy="1297080"/>
          </a:xfrm>
        </p:grpSpPr>
        <p:sp>
          <p:nvSpPr>
            <p:cNvPr id="179" name="Rectangle 5"/>
            <p:cNvSpPr/>
            <p:nvPr/>
          </p:nvSpPr>
          <p:spPr>
            <a:xfrm>
              <a:off x="1281240" y="278136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1281240" y="2781360"/>
              <a:ext cx="658332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63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1" name="Picture 9" descr="http://ae.kulichki.ru/pic/etic/120.jpg"/>
          <p:cNvPicPr/>
          <p:nvPr/>
        </p:nvPicPr>
        <p:blipFill>
          <a:blip r:embed="rId1"/>
          <a:stretch/>
        </p:blipFill>
        <p:spPr>
          <a:xfrm>
            <a:off x="304920" y="1752480"/>
            <a:ext cx="4190760" cy="21337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e3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072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Как вести себя за стол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8840" y="2514600"/>
            <a:ext cx="3809880" cy="411480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илку рекомендуется держа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в левой руке зубцами вниз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так, чтобы конец ее ручки слегка упирался в ладонь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Большим и средним пальцам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нужно держать вилку за ребро ручки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а указательный палец держать сверху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рижимая ручку вилки вниз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стальные пальцы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нужно слегка согнуть и прижать к ладони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8"/>
          <p:cNvGrpSpPr/>
          <p:nvPr/>
        </p:nvGrpSpPr>
        <p:grpSpPr>
          <a:xfrm>
            <a:off x="1281240" y="2719440"/>
            <a:ext cx="6583320" cy="1419120"/>
            <a:chOff x="1281240" y="2719440"/>
            <a:chExt cx="6583320" cy="1419120"/>
          </a:xfrm>
        </p:grpSpPr>
        <p:sp>
          <p:nvSpPr>
            <p:cNvPr id="185" name="Rectangle 5"/>
            <p:cNvSpPr/>
            <p:nvPr/>
          </p:nvSpPr>
          <p:spPr>
            <a:xfrm>
              <a:off x="1281240" y="271944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1281240" y="2719440"/>
              <a:ext cx="658332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71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7" name="Picture 9" descr="http://ae.kulichki.ru/pic/etic/121.jpg"/>
          <p:cNvPicPr/>
          <p:nvPr/>
        </p:nvPicPr>
        <p:blipFill>
          <a:blip r:embed="rId1"/>
          <a:stretch/>
        </p:blipFill>
        <p:spPr>
          <a:xfrm>
            <a:off x="533520" y="1905120"/>
            <a:ext cx="4114800" cy="22096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e3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8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Как вести себя за стол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2514600"/>
            <a:ext cx="4191120" cy="411480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Ложку следует держать в правой руке так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бы конец ручки ложки лежал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а основании указательного пальца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а начало ручки ложки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а среднем пальце. Большим пальцем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 этом нужно слегка прижать ручку сверху к среднему пальцу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 указательны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поддерживать ее сбок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8"/>
          <p:cNvGrpSpPr/>
          <p:nvPr/>
        </p:nvGrpSpPr>
        <p:grpSpPr>
          <a:xfrm>
            <a:off x="1281240" y="2674800"/>
            <a:ext cx="6583320" cy="1509840"/>
            <a:chOff x="1281240" y="2674800"/>
            <a:chExt cx="6583320" cy="1509840"/>
          </a:xfrm>
        </p:grpSpPr>
        <p:sp>
          <p:nvSpPr>
            <p:cNvPr id="191" name="Rectangle 5"/>
            <p:cNvSpPr/>
            <p:nvPr/>
          </p:nvSpPr>
          <p:spPr>
            <a:xfrm>
              <a:off x="1281240" y="267480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>
              <a:off x="1281240" y="2674800"/>
              <a:ext cx="6583320" cy="15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7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3" name="Picture 9" descr="http://ae.kulichki.ru/pic/etic/123.jpg"/>
          <p:cNvPicPr/>
          <p:nvPr/>
        </p:nvPicPr>
        <p:blipFill>
          <a:blip r:embed="rId1"/>
          <a:stretch/>
        </p:blipFill>
        <p:spPr>
          <a:xfrm>
            <a:off x="304920" y="1523880"/>
            <a:ext cx="4114800" cy="20574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Times New Roman"/>
              </a:rPr>
              <a:t>Напитки и бокал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одочная рюмка емкостью 35- 50 см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- для крепких спиртных напитков (водки, горьких настоек, наливок), подаваемых обычно к различным холодным и горячим закускам;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8"/>
          <p:cNvGrpSpPr/>
          <p:nvPr/>
        </p:nvGrpSpPr>
        <p:grpSpPr>
          <a:xfrm>
            <a:off x="1281240" y="2857680"/>
            <a:ext cx="6583320" cy="1144440"/>
            <a:chOff x="1281240" y="2857680"/>
            <a:chExt cx="6583320" cy="1144440"/>
          </a:xfrm>
        </p:grpSpPr>
        <p:sp>
          <p:nvSpPr>
            <p:cNvPr id="197" name="Rectangle 5"/>
            <p:cNvSpPr/>
            <p:nvPr/>
          </p:nvSpPr>
          <p:spPr>
            <a:xfrm>
              <a:off x="1281240" y="285768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6"/>
            <p:cNvSpPr/>
            <p:nvPr/>
          </p:nvSpPr>
          <p:spPr>
            <a:xfrm>
              <a:off x="1281240" y="2857680"/>
              <a:ext cx="658332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53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" name="Picture 9" descr="http://ae.kulichki.ru/pic/etic/30.jpg"/>
          <p:cNvPicPr/>
          <p:nvPr/>
        </p:nvPicPr>
        <p:blipFill>
          <a:blip r:embed="rId1"/>
          <a:stretch/>
        </p:blipFill>
        <p:spPr>
          <a:xfrm>
            <a:off x="1295280" y="1981080"/>
            <a:ext cx="2819520" cy="41911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Times New Roman"/>
              </a:rPr>
              <a:t>Напитки и бокал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дерная рюмка емкостью 50 см3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для крепленых вин (мадеры, портвейна), подаваемых к первым блюдам;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8"/>
          <p:cNvGrpSpPr/>
          <p:nvPr/>
        </p:nvGrpSpPr>
        <p:grpSpPr>
          <a:xfrm>
            <a:off x="1281240" y="2773440"/>
            <a:ext cx="6583320" cy="1311120"/>
            <a:chOff x="1281240" y="2773440"/>
            <a:chExt cx="6583320" cy="1311120"/>
          </a:xfrm>
        </p:grpSpPr>
        <p:sp>
          <p:nvSpPr>
            <p:cNvPr id="203" name="Rectangle 5"/>
            <p:cNvSpPr/>
            <p:nvPr/>
          </p:nvSpPr>
          <p:spPr>
            <a:xfrm>
              <a:off x="1281240" y="277344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1281240" y="2773440"/>
              <a:ext cx="6583320" cy="13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64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" name="Picture 9" descr="http://ae.kulichki.ru/pic/etic/31.jpg"/>
          <p:cNvPicPr/>
          <p:nvPr/>
        </p:nvPicPr>
        <p:blipFill>
          <a:blip r:embed="rId1"/>
          <a:stretch/>
        </p:blipFill>
        <p:spPr>
          <a:xfrm>
            <a:off x="1289160" y="1981080"/>
            <a:ext cx="2603520" cy="41148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Times New Roman"/>
              </a:rPr>
              <a:t>Напитки и бокал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афитная рюмка емкостью 100 с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- для натуральных (виноградных) красных вин, подаваемых к горячим мясным блюдам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8"/>
          <p:cNvGrpSpPr/>
          <p:nvPr/>
        </p:nvGrpSpPr>
        <p:grpSpPr>
          <a:xfrm>
            <a:off x="1281240" y="2604960"/>
            <a:ext cx="6583320" cy="1647720"/>
            <a:chOff x="1281240" y="2604960"/>
            <a:chExt cx="6583320" cy="1647720"/>
          </a:xfrm>
        </p:grpSpPr>
        <p:sp>
          <p:nvSpPr>
            <p:cNvPr id="209" name="Rectangle 5"/>
            <p:cNvSpPr/>
            <p:nvPr/>
          </p:nvSpPr>
          <p:spPr>
            <a:xfrm>
              <a:off x="1281240" y="260496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1281240" y="2604960"/>
              <a:ext cx="65833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86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1" name="Picture 9" descr="http://ae.kulichki.ru/pic/etic/33.jpg"/>
          <p:cNvPicPr/>
          <p:nvPr/>
        </p:nvPicPr>
        <p:blipFill>
          <a:blip r:embed="rId1"/>
          <a:stretch/>
        </p:blipFill>
        <p:spPr>
          <a:xfrm>
            <a:off x="1733400" y="1981080"/>
            <a:ext cx="1714680" cy="41148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0ea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026"/>
          <p:cNvSpPr/>
          <p:nvPr/>
        </p:nvSpPr>
        <p:spPr>
          <a:xfrm>
            <a:off x="214200" y="1714680"/>
            <a:ext cx="535788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9b"/>
                </a:solidFill>
                <a:latin typeface="Times New Roman"/>
              </a:rPr>
              <a:t>Руководитель</a:t>
            </a:r>
            <a:r>
              <a:rPr b="0" lang="en-US" sz="3600" spc="-1" strike="noStrike">
                <a:solidFill>
                  <a:srgbClr val="27279b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ва Елена Яковлевна, учитель,                                       педагог доп.образования, зам.директора по экспериментальной работе ГОУ ЦДО «Эври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030"/>
          <p:cNvSpPr/>
          <p:nvPr/>
        </p:nvSpPr>
        <p:spPr>
          <a:xfrm>
            <a:off x="3886200" y="43434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0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Рисунок 2" descr="F:\DCIM\100OLYMP\P1011765.JPG"/>
          <p:cNvPicPr/>
          <p:nvPr/>
        </p:nvPicPr>
        <p:blipFill>
          <a:blip r:embed="rId1"/>
          <a:srcRect l="25334" t="2778" r="56549" b="55645"/>
          <a:stretch/>
        </p:blipFill>
        <p:spPr>
          <a:xfrm>
            <a:off x="5572080" y="857160"/>
            <a:ext cx="235764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Times New Roman"/>
              </a:rPr>
              <a:t>Напитки и бокал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окал для шампанского емкостью 12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см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даваемого к десертным блюд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8"/>
          <p:cNvGrpSpPr/>
          <p:nvPr/>
        </p:nvGrpSpPr>
        <p:grpSpPr>
          <a:xfrm>
            <a:off x="1281240" y="2498760"/>
            <a:ext cx="6583320" cy="1860480"/>
            <a:chOff x="1281240" y="2498760"/>
            <a:chExt cx="6583320" cy="1860480"/>
          </a:xfrm>
        </p:grpSpPr>
        <p:sp>
          <p:nvSpPr>
            <p:cNvPr id="215" name="Rectangle 5"/>
            <p:cNvSpPr/>
            <p:nvPr/>
          </p:nvSpPr>
          <p:spPr>
            <a:xfrm>
              <a:off x="1281240" y="249876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1281240" y="2498760"/>
              <a:ext cx="6583320" cy="18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7" name="Picture 9" descr="http://ae.kulichki.ru/pic/etic/34.jpg"/>
          <p:cNvPicPr/>
          <p:nvPr/>
        </p:nvPicPr>
        <p:blipFill>
          <a:blip r:embed="rId1"/>
          <a:stretch/>
        </p:blipFill>
        <p:spPr>
          <a:xfrm>
            <a:off x="1736640" y="1981080"/>
            <a:ext cx="1706760" cy="41148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Times New Roman"/>
              </a:rPr>
              <a:t>Напитки и бокал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фужер емкостью 450-500см3 широкий на низкой ножк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- для коньяка или бренди. Наливают коньяк по 15-25см3 и держат в ладони, передавая напитку тепло своего тела, при этом аромат коньяка становится ярче;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8"/>
          <p:cNvGrpSpPr/>
          <p:nvPr/>
        </p:nvGrpSpPr>
        <p:grpSpPr>
          <a:xfrm>
            <a:off x="1281240" y="2773440"/>
            <a:ext cx="6583320" cy="1311120"/>
            <a:chOff x="1281240" y="2773440"/>
            <a:chExt cx="6583320" cy="1311120"/>
          </a:xfrm>
        </p:grpSpPr>
        <p:sp>
          <p:nvSpPr>
            <p:cNvPr id="221" name="Rectangle 5"/>
            <p:cNvSpPr/>
            <p:nvPr/>
          </p:nvSpPr>
          <p:spPr>
            <a:xfrm>
              <a:off x="1281240" y="277344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1281240" y="2773440"/>
              <a:ext cx="6583320" cy="13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64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3" name="Picture 9" descr="http://ae.kulichki.ru/pic/etic/36.jpg"/>
          <p:cNvPicPr/>
          <p:nvPr/>
        </p:nvPicPr>
        <p:blipFill>
          <a:blip r:embed="rId1"/>
          <a:stretch/>
        </p:blipFill>
        <p:spPr>
          <a:xfrm>
            <a:off x="1197000" y="1981080"/>
            <a:ext cx="2787480" cy="41148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Times New Roman"/>
              </a:rPr>
              <a:t>Напитки и бокал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топка коническая емкостью 120-150 см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мартини, различных коктейлей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11"/>
          <p:cNvGrpSpPr/>
          <p:nvPr/>
        </p:nvGrpSpPr>
        <p:grpSpPr>
          <a:xfrm>
            <a:off x="1281240" y="2629080"/>
            <a:ext cx="6583320" cy="1601640"/>
            <a:chOff x="1281240" y="2629080"/>
            <a:chExt cx="6583320" cy="1601640"/>
          </a:xfrm>
        </p:grpSpPr>
        <p:sp>
          <p:nvSpPr>
            <p:cNvPr id="227" name="Rectangle 8"/>
            <p:cNvSpPr/>
            <p:nvPr/>
          </p:nvSpPr>
          <p:spPr>
            <a:xfrm>
              <a:off x="1281240" y="262908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9"/>
            <p:cNvSpPr/>
            <p:nvPr/>
          </p:nvSpPr>
          <p:spPr>
            <a:xfrm>
              <a:off x="1281240" y="2629080"/>
              <a:ext cx="658332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83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Picture 12" descr="http://ae.kulichki.ru/pic/etic/37.jpg"/>
          <p:cNvPicPr/>
          <p:nvPr/>
        </p:nvPicPr>
        <p:blipFill>
          <a:blip r:embed="rId1"/>
          <a:stretch/>
        </p:blipFill>
        <p:spPr>
          <a:xfrm>
            <a:off x="1260360" y="1981080"/>
            <a:ext cx="2660760" cy="41148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Times New Roman"/>
              </a:rPr>
              <a:t>Напитки</a:t>
            </a:r>
            <a:r>
              <a:rPr b="0" i="1" lang="en-US" sz="6000" spc="-1" strike="noStrike">
                <a:solidFill>
                  <a:srgbClr val="00ff00"/>
                </a:solidFill>
                <a:latin typeface="Times New Roman"/>
              </a:rPr>
              <a:t> и </a:t>
            </a:r>
            <a:r>
              <a:rPr b="1" i="1" lang="en-US" sz="6000" spc="-1" strike="noStrike">
                <a:solidFill>
                  <a:srgbClr val="00ff00"/>
                </a:solidFill>
                <a:latin typeface="Times New Roman"/>
              </a:rPr>
              <a:t>бокал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топка цилиндрическая емкостью 250-500 см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пива и морса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8"/>
          <p:cNvGrpSpPr/>
          <p:nvPr/>
        </p:nvGrpSpPr>
        <p:grpSpPr>
          <a:xfrm>
            <a:off x="1281240" y="2575080"/>
            <a:ext cx="6583320" cy="1707840"/>
            <a:chOff x="1281240" y="2575080"/>
            <a:chExt cx="6583320" cy="1707840"/>
          </a:xfrm>
        </p:grpSpPr>
        <p:sp>
          <p:nvSpPr>
            <p:cNvPr id="233" name="Rectangle 5"/>
            <p:cNvSpPr/>
            <p:nvPr/>
          </p:nvSpPr>
          <p:spPr>
            <a:xfrm>
              <a:off x="1281240" y="257508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6"/>
            <p:cNvSpPr/>
            <p:nvPr/>
          </p:nvSpPr>
          <p:spPr>
            <a:xfrm>
              <a:off x="1281240" y="2575080"/>
              <a:ext cx="6583320" cy="17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9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5" name="Picture 9" descr="http://ae.kulichki.ru/pic/etic/38.jpg"/>
          <p:cNvPicPr/>
          <p:nvPr/>
        </p:nvPicPr>
        <p:blipFill>
          <a:blip r:embed="rId1"/>
          <a:stretch/>
        </p:blipFill>
        <p:spPr>
          <a:xfrm>
            <a:off x="1552680" y="1981080"/>
            <a:ext cx="2076480" cy="41148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0cdc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785880" y="1357200"/>
            <a:ext cx="757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d0759"/>
                </a:solidFill>
                <a:latin typeface="Times New Roman"/>
              </a:rPr>
              <a:t>Хорошие манеры –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d0759"/>
                </a:solidFill>
                <a:latin typeface="Times New Roman"/>
              </a:rPr>
              <a:t>это залог уважительного отношения </a:t>
            </a:r>
            <a:r>
              <a:rPr b="1" lang="en-US" sz="3500" spc="-1" strike="noStrike">
                <a:solidFill>
                  <a:srgbClr val="5d0759"/>
                </a:solidFill>
                <a:latin typeface="Times New Roman"/>
              </a:rPr>
              <a:t>                        </a:t>
            </a:r>
            <a:r>
              <a:rPr b="1" lang="ru-RU" sz="3500" spc="-1" strike="noStrike">
                <a:solidFill>
                  <a:srgbClr val="5d0759"/>
                </a:solidFill>
                <a:latin typeface="Times New Roman"/>
              </a:rPr>
              <a:t>к Вам!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d0759"/>
                </a:solidFill>
                <a:latin typeface="Times New Roman"/>
              </a:rPr>
              <a:t>Знания правил поведения за столом </a:t>
            </a:r>
            <a:r>
              <a:rPr b="1" lang="en-US" sz="3500" spc="-1" strike="noStrike">
                <a:solidFill>
                  <a:srgbClr val="5d0759"/>
                </a:solidFill>
                <a:latin typeface="Times New Roman"/>
              </a:rPr>
              <a:t>               </a:t>
            </a:r>
            <a:r>
              <a:rPr b="1" lang="ru-RU" sz="3500" spc="-1" strike="noStrike">
                <a:solidFill>
                  <a:srgbClr val="5d0759"/>
                </a:solidFill>
                <a:latin typeface="Times New Roman"/>
              </a:rPr>
              <a:t>и правил сервировки стола </a:t>
            </a:r>
            <a:r>
              <a:rPr b="1" lang="en-US" sz="3500" spc="-1" strike="noStrike">
                <a:solidFill>
                  <a:srgbClr val="5d0759"/>
                </a:solidFill>
                <a:latin typeface="Times New Roman"/>
              </a:rPr>
              <a:t>               </a:t>
            </a:r>
            <a:r>
              <a:rPr b="1" lang="ru-RU" sz="3500" spc="-1" strike="noStrike">
                <a:solidFill>
                  <a:srgbClr val="5d0759"/>
                </a:solidFill>
                <a:latin typeface="Times New Roman"/>
              </a:rPr>
              <a:t>помогут Вам стать </a:t>
            </a:r>
            <a:r>
              <a:rPr b="1" lang="en-US" sz="3500" spc="-1" strike="noStrike">
                <a:solidFill>
                  <a:srgbClr val="5d0759"/>
                </a:solidFill>
                <a:latin typeface="Times New Roman"/>
              </a:rPr>
              <a:t>                          </a:t>
            </a:r>
            <a:r>
              <a:rPr b="1" lang="ru-RU" sz="3500" spc="-1" strike="noStrike">
                <a:solidFill>
                  <a:srgbClr val="5d0759"/>
                </a:solidFill>
                <a:latin typeface="Times New Roman"/>
              </a:rPr>
              <a:t>успешным человеком!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3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http://www.torzhestvo.ru/img/pages/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ff"/>
                </a:solidFill>
                <a:latin typeface="Times New Roman"/>
              </a:rPr>
              <a:t>Правила сервировки стол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 сервировке стола рекомендуется  соблюдать следующую последовательност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ачале накрывают стол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verdana"/>
              </a:rPr>
              <a:t>скатерть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тавляют </a:t>
            </a:r>
            <a:r>
              <a:rPr b="1" i="1" lang="ru-RU" sz="2800" spc="-1" strike="noStrike">
                <a:solidFill>
                  <a:srgbClr val="3333cc"/>
                </a:solidFill>
                <a:latin typeface="verdana"/>
              </a:rPr>
              <a:t>тарел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кладываю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verdana"/>
              </a:rPr>
              <a:t>столовые приборы</a:t>
            </a:r>
            <a:r>
              <a:rPr b="0" lang="ru-RU" sz="2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авя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verdana"/>
              </a:rPr>
              <a:t> бокалы,фужеры,рюм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кладываю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verdana"/>
              </a:rPr>
              <a:t>салфет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тавляют приборы с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verdana"/>
              </a:rPr>
              <a:t>специ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крашают вазам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</a:t>
            </a:r>
            <a:r>
              <a:rPr b="1" i="1" lang="ru-RU" sz="2800" spc="-1" strike="noStrike">
                <a:solidFill>
                  <a:srgbClr val="3333cc"/>
                </a:solidFill>
                <a:latin typeface="verdana"/>
              </a:rPr>
              <a:t>цве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0ea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ff"/>
                </a:solidFill>
                <a:latin typeface="Times New Roman"/>
              </a:rPr>
              <a:t>Правила сервировки стола</a:t>
            </a:r>
            <a:r>
              <a:rPr b="0" i="1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3399"/>
                </a:solidFill>
                <a:latin typeface="Times New Roman"/>
              </a:rPr>
              <a:t>(расстановка тарелок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21337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рого против каждого стула ставят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акусочную тарелк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следя за тем, чтобы расстояние от края стола до края тарелки составляло примерно 1,5-2 с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1281240" y="2697120"/>
            <a:ext cx="6583320" cy="1463760"/>
            <a:chOff x="1281240" y="2697120"/>
            <a:chExt cx="6583320" cy="1463760"/>
          </a:xfrm>
        </p:grpSpPr>
        <p:sp>
          <p:nvSpPr>
            <p:cNvPr id="56" name="Rectangle 5"/>
            <p:cNvSpPr/>
            <p:nvPr/>
          </p:nvSpPr>
          <p:spPr>
            <a:xfrm>
              <a:off x="1281240" y="269712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6"/>
            <p:cNvSpPr/>
            <p:nvPr/>
          </p:nvSpPr>
          <p:spPr>
            <a:xfrm>
              <a:off x="1281240" y="2697120"/>
              <a:ext cx="6583320" cy="14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74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Picture 9" descr="http://ae.kulichki.ru/pic/etic/60.jpg"/>
          <p:cNvPicPr/>
          <p:nvPr/>
        </p:nvPicPr>
        <p:blipFill>
          <a:blip r:embed="rId1"/>
          <a:stretch/>
        </p:blipFill>
        <p:spPr>
          <a:xfrm>
            <a:off x="9144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0ea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ff"/>
                </a:solidFill>
                <a:latin typeface="Times New Roman"/>
              </a:rPr>
              <a:t>Правила сервировки стола</a:t>
            </a:r>
            <a:r>
              <a:rPr b="0" i="1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3399"/>
                </a:solidFill>
                <a:latin typeface="Times New Roman"/>
              </a:rPr>
              <a:t>(расстановка тарелок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7960" y="20570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 сервировке стола по случаю особых торжеств вначале в качестве подставки ставят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елкие столовы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аре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а на них - закусочные тарелк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838080" y="3200400"/>
            <a:ext cx="6583320" cy="1601640"/>
            <a:chOff x="838080" y="3200400"/>
            <a:chExt cx="6583320" cy="1601640"/>
          </a:xfrm>
        </p:grpSpPr>
        <p:sp>
          <p:nvSpPr>
            <p:cNvPr id="62" name="Rectangle 5"/>
            <p:cNvSpPr/>
            <p:nvPr/>
          </p:nvSpPr>
          <p:spPr>
            <a:xfrm>
              <a:off x="838080" y="320040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6"/>
            <p:cNvSpPr/>
            <p:nvPr/>
          </p:nvSpPr>
          <p:spPr>
            <a:xfrm>
              <a:off x="838080" y="3200400"/>
              <a:ext cx="658332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83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Picture 9" descr="http://ae.kulichki.ru/pic/etic/61.jpg"/>
          <p:cNvPicPr/>
          <p:nvPr/>
        </p:nvPicPr>
        <p:blipFill>
          <a:blip r:embed="rId1"/>
          <a:stretch/>
        </p:blipFill>
        <p:spPr>
          <a:xfrm>
            <a:off x="914400" y="2133720"/>
            <a:ext cx="373392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0ea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ff"/>
                </a:solidFill>
                <a:latin typeface="Times New Roman"/>
              </a:rPr>
              <a:t>Правила сервировки стола</a:t>
            </a:r>
            <a:r>
              <a:rPr b="0" i="1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3399"/>
                </a:solidFill>
                <a:latin typeface="Times New Roman"/>
              </a:rPr>
              <a:t>(расстановка тарелок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Чтобы закусочная тарелка не скользила по столовой, советуем положить между ними салфетку. При этом нужно соблюдать то же расстояние от края стола до края тарелки, что и при расстановке закусочных тарелок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25"/>
          <p:cNvGrpSpPr/>
          <p:nvPr/>
        </p:nvGrpSpPr>
        <p:grpSpPr>
          <a:xfrm>
            <a:off x="1281240" y="2955960"/>
            <a:ext cx="6583320" cy="946080"/>
            <a:chOff x="1281240" y="2955960"/>
            <a:chExt cx="6583320" cy="946080"/>
          </a:xfrm>
        </p:grpSpPr>
        <p:sp>
          <p:nvSpPr>
            <p:cNvPr id="68" name="Rectangle 23"/>
            <p:cNvSpPr/>
            <p:nvPr/>
          </p:nvSpPr>
          <p:spPr>
            <a:xfrm>
              <a:off x="1281240" y="295596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24"/>
            <p:cNvSpPr/>
            <p:nvPr/>
          </p:nvSpPr>
          <p:spPr>
            <a:xfrm>
              <a:off x="1281240" y="2955960"/>
              <a:ext cx="658332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28"/>
          <p:cNvGrpSpPr/>
          <p:nvPr/>
        </p:nvGrpSpPr>
        <p:grpSpPr>
          <a:xfrm>
            <a:off x="1281240" y="2955960"/>
            <a:ext cx="6583320" cy="946080"/>
            <a:chOff x="1281240" y="2955960"/>
            <a:chExt cx="6583320" cy="946080"/>
          </a:xfrm>
        </p:grpSpPr>
        <p:sp>
          <p:nvSpPr>
            <p:cNvPr id="71" name="Rectangle 26"/>
            <p:cNvSpPr/>
            <p:nvPr/>
          </p:nvSpPr>
          <p:spPr>
            <a:xfrm>
              <a:off x="1281240" y="295596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281240" y="2955960"/>
              <a:ext cx="658332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31"/>
          <p:cNvGrpSpPr/>
          <p:nvPr/>
        </p:nvGrpSpPr>
        <p:grpSpPr>
          <a:xfrm>
            <a:off x="1281240" y="2955960"/>
            <a:ext cx="6583320" cy="946080"/>
            <a:chOff x="1281240" y="2955960"/>
            <a:chExt cx="6583320" cy="946080"/>
          </a:xfrm>
        </p:grpSpPr>
        <p:sp>
          <p:nvSpPr>
            <p:cNvPr id="74" name="Rectangle 29"/>
            <p:cNvSpPr/>
            <p:nvPr/>
          </p:nvSpPr>
          <p:spPr>
            <a:xfrm>
              <a:off x="1281240" y="295596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1281240" y="2955960"/>
              <a:ext cx="658332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37"/>
          <p:cNvGrpSpPr/>
          <p:nvPr/>
        </p:nvGrpSpPr>
        <p:grpSpPr>
          <a:xfrm>
            <a:off x="1281240" y="2955960"/>
            <a:ext cx="6583320" cy="946080"/>
            <a:chOff x="1281240" y="2955960"/>
            <a:chExt cx="6583320" cy="946080"/>
          </a:xfrm>
        </p:grpSpPr>
        <p:sp>
          <p:nvSpPr>
            <p:cNvPr id="77" name="Rectangle 35"/>
            <p:cNvSpPr/>
            <p:nvPr/>
          </p:nvSpPr>
          <p:spPr>
            <a:xfrm>
              <a:off x="1281240" y="295596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36"/>
            <p:cNvSpPr/>
            <p:nvPr/>
          </p:nvSpPr>
          <p:spPr>
            <a:xfrm>
              <a:off x="1281240" y="2955960"/>
              <a:ext cx="658332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1"/>
          <p:cNvGrpSpPr/>
          <p:nvPr/>
        </p:nvGrpSpPr>
        <p:grpSpPr>
          <a:xfrm>
            <a:off x="1281240" y="2629080"/>
            <a:ext cx="6583320" cy="1601640"/>
            <a:chOff x="1281240" y="2629080"/>
            <a:chExt cx="6583320" cy="1601640"/>
          </a:xfrm>
        </p:grpSpPr>
        <p:sp>
          <p:nvSpPr>
            <p:cNvPr id="80" name="Rectangle 38"/>
            <p:cNvSpPr/>
            <p:nvPr/>
          </p:nvSpPr>
          <p:spPr>
            <a:xfrm>
              <a:off x="1281240" y="262908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39"/>
            <p:cNvSpPr/>
            <p:nvPr/>
          </p:nvSpPr>
          <p:spPr>
            <a:xfrm>
              <a:off x="1281240" y="2629080"/>
              <a:ext cx="658332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83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Picture 42" descr="http://ae.kulichki.ru/pic/etic/61.jpg"/>
          <p:cNvPicPr/>
          <p:nvPr/>
        </p:nvPicPr>
        <p:blipFill>
          <a:blip r:embed="rId1"/>
          <a:stretch/>
        </p:blipFill>
        <p:spPr>
          <a:xfrm>
            <a:off x="990720" y="2057400"/>
            <a:ext cx="3657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0ea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ff"/>
                </a:solidFill>
                <a:latin typeface="Times New Roman"/>
              </a:rPr>
              <a:t>Правила сервировки стола</a:t>
            </a:r>
            <a:r>
              <a:rPr b="0" i="1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3399"/>
                </a:solidFill>
                <a:latin typeface="Times New Roman"/>
              </a:rPr>
              <a:t>(расстановка тарелок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атем на расстоянии 5-15 см слева от закусочных ставят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ирожковые тарелки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помня при этом, что их центр должен находиться на одной лини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8"/>
          <p:cNvGrpSpPr/>
          <p:nvPr/>
        </p:nvGrpSpPr>
        <p:grpSpPr>
          <a:xfrm>
            <a:off x="1281240" y="2430360"/>
            <a:ext cx="6583320" cy="1996920"/>
            <a:chOff x="1281240" y="2430360"/>
            <a:chExt cx="6583320" cy="1996920"/>
          </a:xfrm>
        </p:grpSpPr>
        <p:sp>
          <p:nvSpPr>
            <p:cNvPr id="86" name="Rectangle 5"/>
            <p:cNvSpPr/>
            <p:nvPr/>
          </p:nvSpPr>
          <p:spPr>
            <a:xfrm>
              <a:off x="1281240" y="243036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>
              <a:off x="1281240" y="2430360"/>
              <a:ext cx="6583320" cy="19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9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Picture 9" descr="http://ae.kulichki.ru/pic/etic/62.jpg"/>
          <p:cNvPicPr/>
          <p:nvPr/>
        </p:nvPicPr>
        <p:blipFill>
          <a:blip r:embed="rId1"/>
          <a:stretch/>
        </p:blipFill>
        <p:spPr>
          <a:xfrm>
            <a:off x="1143000" y="2057400"/>
            <a:ext cx="32004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0ea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ff"/>
                </a:solidFill>
                <a:latin typeface="Times New Roman"/>
              </a:rPr>
              <a:t>Правила сервировки стола</a:t>
            </a:r>
            <a:r>
              <a:rPr b="0" i="1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3399"/>
                </a:solidFill>
                <a:latin typeface="Times New Roman"/>
              </a:rPr>
              <a:t>(расстановка тарелок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 особо торжественных случаях пирожковую тарелку можно поставить так, чтобы дальние от края стола края тарелок были на одной линии с мелкой столовой тарел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8"/>
          <p:cNvGrpSpPr/>
          <p:nvPr/>
        </p:nvGrpSpPr>
        <p:grpSpPr>
          <a:xfrm>
            <a:off x="1281240" y="2430360"/>
            <a:ext cx="6583320" cy="1996920"/>
            <a:chOff x="1281240" y="2430360"/>
            <a:chExt cx="6583320" cy="1996920"/>
          </a:xfrm>
        </p:grpSpPr>
        <p:sp>
          <p:nvSpPr>
            <p:cNvPr id="92" name="Rectangle 5"/>
            <p:cNvSpPr/>
            <p:nvPr/>
          </p:nvSpPr>
          <p:spPr>
            <a:xfrm>
              <a:off x="1281240" y="2430360"/>
              <a:ext cx="6583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6"/>
            <p:cNvSpPr/>
            <p:nvPr/>
          </p:nvSpPr>
          <p:spPr>
            <a:xfrm>
              <a:off x="1281240" y="2430360"/>
              <a:ext cx="6583320" cy="19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9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Picture 9" descr="http://ae.kulichki.ru/pic/etic/63.jpg"/>
          <p:cNvPicPr/>
          <p:nvPr/>
        </p:nvPicPr>
        <p:blipFill>
          <a:blip r:embed="rId1"/>
          <a:stretch/>
        </p:blipFill>
        <p:spPr>
          <a:xfrm>
            <a:off x="1371600" y="2133720"/>
            <a:ext cx="32767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10:00:46Z</dcterms:created>
  <dc:creator>60</dc:creator>
  <dc:description/>
  <dc:language>en-US</dc:language>
  <cp:lastModifiedBy>132</cp:lastModifiedBy>
  <dcterms:modified xsi:type="dcterms:W3CDTF">2010-01-24T07:28:19Z</dcterms:modified>
  <cp:revision>89</cp:revision>
  <dc:subject/>
  <dc:title>Правила сервировки стола</dc:title>
</cp:coreProperties>
</file>